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6FC-5183-49F7-92C4-AFA325B4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A94-081D-4DEC-BE9B-BD138B9F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BEC-0DF1-4CE5-BE79-3801CC74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F3-93CD-432C-9EC0-3398D24E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D77-0ABB-4C1B-B344-542355C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868-1D6C-41F7-AD74-DCB71F7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6FC-627F-49B1-BDF7-9B025FC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F97-767C-43B1-9B5F-C396010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56A-5D1B-4F76-85F3-F498AFF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1EA-CF92-4D2A-B792-1224F11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947-983A-4003-9BD8-0D3B38D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745-6CE3-4E8E-97F3-A86210B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084-8B9C-45A4-8F3F-AD5F2CCF0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a.org/science_resources/datasharing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atadryad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ical Society of 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haring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 Wilson, on behalf of Cliff D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a.org/science_resources/datasharing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ed from a “Society Summit” in 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workshops, starting in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s to 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s for 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A enabling “Data Paper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ers in ESA journals must publish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persistent arch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yad Data project: 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atadryad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SF funded project, led by NESC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DSpa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getting the data, less on data cu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accept most any format, including Ex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secure repository and persistent identif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many ways, US leads; huge variations across international sc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technical, mostly soc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ers rewarded for papers, not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ring data has short-term disincen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s time, others could sco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s can find mistak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wnership and intellectual proper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sitive data (human subjects, T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ambitious archive schemes (how much metadata is enough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8:06:57Z</dcterms:created>
  <dc:creator>Bruce E. Wilson</dc:creator>
  <dc:description/>
  <dc:language>en-US</dc:language>
  <cp:lastModifiedBy>Bruce E. Wilson</cp:lastModifiedBy>
  <dcterms:modified xsi:type="dcterms:W3CDTF">2009-07-08T18:49:06Z</dcterms:modified>
  <cp:revision>8</cp:revision>
  <dc:subject/>
  <dc:title>Slide 1</dc:title>
</cp:coreProperties>
</file>